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274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head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267080" y="0"/>
            <a:ext cx="3275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8200" y="837720"/>
            <a:ext cx="52815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0360" y="5105520"/>
            <a:ext cx="556092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10134360"/>
            <a:ext cx="327492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267080" y="10134360"/>
            <a:ext cx="32752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D3887-F687-43B8-A032-92C1CD2BD4F8}" type="slidenum">
              <a:rPr b="0" lang="en-GB" sz="1200" spc="-1" strike="noStrike">
                <a:solidFill>
                  <a:srgbClr val="ffffff"/>
                </a:solidFill>
                <a:latin typeface="Times New Roman"/>
                <a:ea typeface="Luxi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990360" y="5105160"/>
            <a:ext cx="5562360" cy="48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0880" y="-25920"/>
            <a:ext cx="8604360" cy="87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5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-25920"/>
            <a:ext cx="8604360" cy="18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9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99920" indent="-26568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01680" indent="-19944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3080" indent="-197640">
              <a:lnSpc>
                <a:spcPct val="15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04480" indent="-199080">
              <a:lnSpc>
                <a:spcPct val="15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04480" indent="-199080">
              <a:lnSpc>
                <a:spcPct val="15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Optická vlákna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82720" y="1561680"/>
            <a:ext cx="847728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Semestrální práce z předmětu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X32TSS – Telekomunikační systémy a sítě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3.ročník FEL ČVUT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Leoš Junek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cccccc"/>
                </a:solidFill>
                <a:latin typeface="Times New Roman"/>
                <a:ea typeface="Arial"/>
              </a:rPr>
              <a:t>Michal Kurdiovský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212760" indent="0" algn="ctr">
              <a:lnSpc>
                <a:spcPct val="116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760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Výhody a nevýhody opt. vláke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40880" y="1439640"/>
            <a:ext cx="428004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munita vůči elmag. polí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elká přenosová šířk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Interferenční imunit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Odolnost proti žíravinám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řenášení i malého množství energi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Explozní imunita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Teplota okolního prostředí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Snazší a lacinější instalace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alé rozměry a hmotn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kvalita přenos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ízká cena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486040" y="1447560"/>
            <a:ext cx="4280040" cy="32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e6e6e6"/>
                </a:solidFill>
                <a:latin typeface="Times New Roman"/>
              </a:rPr>
              <a:t>Nevýhody: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Absorbce vodíku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Vysoká cena pro malý přenosový výkon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Mechanické namáháni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Nevodivo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adiace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" y="1371600"/>
            <a:ext cx="43671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tická vlákna nabízí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ysoké rychlosti přenos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elké přenosové vzdálen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říznivá ce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rend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udoucnost  telekomunikací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ychlosti přenosu dat porost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ní zcela využit potenciá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Závěr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968720" y="1763640"/>
            <a:ext cx="4824720" cy="40482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376360" y="3995640"/>
            <a:ext cx="486000" cy="432000"/>
          </a:xfrm>
          <a:prstGeom prst="downArrow">
            <a:avLst>
              <a:gd name="adj1" fmla="val 50000"/>
              <a:gd name="adj2" fmla="val 25000"/>
            </a:avLst>
          </a:pr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Úvod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79640" y="1440000"/>
            <a:ext cx="8477280" cy="29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růhledné tenké vlákno pro přenos světl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sklo, plast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láknová opt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telekomunikace, osvětlení, senzory,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22860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obrazová technika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97800" y="2160720"/>
            <a:ext cx="3022560" cy="456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rincip funkc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2720" y="1355400"/>
            <a:ext cx="8477280" cy="35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é vlákn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am.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i="1" lang="en-GB" sz="2400" spc="-1" strike="noStrike">
                <a:solidFill>
                  <a:srgbClr val="e6e6e6"/>
                </a:solidFill>
                <a:latin typeface="Times New Roman"/>
              </a:rPr>
              <a:t>br.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fibr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 obklopené obalovou vrstvou (pláštěm)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álcový dielektrický vlnovod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500" spc="-1" strike="noStrike">
                <a:solidFill>
                  <a:srgbClr val="e6e6e6"/>
                </a:solidFill>
                <a:latin typeface="Times New Roman"/>
              </a:rPr>
              <a:t>                                      </a:t>
            </a:r>
            <a:endParaRPr b="0" lang="en-US" sz="5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Totální odraz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total internal reflection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ozhraní jádro-plášť: žádný lom, pouze odraz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ateriálová podmínka: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jádro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n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plášť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ická podmínka: úhel dopadu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&gt;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kde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ν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 baseline="-21000">
                <a:solidFill>
                  <a:srgbClr val="e6e6e6"/>
                </a:solidFill>
                <a:latin typeface="Times New Roman"/>
              </a:rPr>
              <a:t>krit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 je 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kritický úhel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úhel měříme od kolmice na rovinu dopad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64000" y="4932360"/>
            <a:ext cx="4392360" cy="203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720" y="1355760"/>
            <a:ext cx="8820000" cy="38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Optický vlnovod</a:t>
            </a: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optical wavegui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přenáší jednu nebo více vln světelných paprsků, tzv. vidů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des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jednovidová a více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edn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single 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ono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ovidové vlákno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multi-mode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zvláště u jednovidových vláken: část energie přenášena pláštěm (</a:t>
            </a:r>
            <a:r>
              <a:rPr b="1" lang="en-GB" sz="1900" spc="-1" strike="noStrike">
                <a:solidFill>
                  <a:srgbClr val="e6e6e6"/>
                </a:solidFill>
                <a:latin typeface="Times New Roman"/>
              </a:rPr>
              <a:t>evanescentní vlna</a:t>
            </a:r>
            <a:r>
              <a:rPr b="0" lang="en-GB" sz="19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jednovidové vlákno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319640" y="4140360"/>
            <a:ext cx="3403440" cy="27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Typy </a:t>
            </a:r>
            <a:r>
              <a:rPr b="1" i="1" lang="en-GB" sz="24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24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87400" y="1360440"/>
            <a:ext cx="6908760" cy="4040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0720" y="5579640"/>
            <a:ext cx="7920000" cy="12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jednovidové vlákno –  průměr  8 µm až  10 µm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Arial"/>
              </a:rPr>
              <a:t>mnohovidové vlákno – průměr  50 µm, 62,5 µm a více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Materiály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2720" y="1439640"/>
            <a:ext cx="8477280" cy="47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Běžn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– křemík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lákna pro přenos záření vyšších vlnových délek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(infračervené z.) 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zirkonič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zirco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hlinitan fluorový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fluoroaluminate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chalkogenit (</a:t>
            </a:r>
            <a:r>
              <a:rPr b="0" lang="en-GB" sz="1800" spc="-1" strike="noStrike">
                <a:solidFill>
                  <a:srgbClr val="00ffff"/>
                </a:solidFill>
                <a:latin typeface="Times New Roman"/>
              </a:rPr>
              <a:t>chalcogenide glasses</a:t>
            </a:r>
            <a:r>
              <a:rPr b="0" lang="en-GB" sz="1800" spc="-1" strike="noStrike">
                <a:solidFill>
                  <a:srgbClr val="e6e6e6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Index lomu těchto skel: asi 1,5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Rozdíl indexů lomu mezi jádrem a pláštěm: menší než 1%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Plastová vlákna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plastic optical fiber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, POF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jádro: polymetylmetakrylát (PMMA), plášť: fluorované polymer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bvykle skoková změna indexu lomu (SI), mnohovidová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nohem vyšší útlum: 1 dBm</a:t>
            </a:r>
            <a:r>
              <a:rPr b="0" lang="en-GB" sz="2400" spc="-1" strike="noStrike" baseline="21000">
                <a:solidFill>
                  <a:srgbClr val="e6e6e6"/>
                </a:solidFill>
                <a:latin typeface="Times New Roman"/>
              </a:rPr>
              <a:t>-1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a vyšší =&gt; brání širšímu užití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2362320"/>
            <a:ext cx="1860840" cy="13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1240" y="536400"/>
            <a:ext cx="8609040" cy="7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2760" indent="0">
              <a:lnSpc>
                <a:spcPct val="124000"/>
              </a:lnSpc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vláken (obecně)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03080" y="1439640"/>
            <a:ext cx="8476920" cy="54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vysokorychlostní přenosy dat na velké vzdálenosti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odmořské kabely, mezinárodní a národní sítě,  metropolitní sítě, průmyslový etherne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rychlý přenos dat s požadavkem na minimální ztrá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(přenos digitální informace z DVD/CD/MD rekordérů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e6e6e6"/>
                </a:solidFill>
                <a:latin typeface="Times New Roman"/>
              </a:rPr>
              <a:t>Využití bez přenosu dat: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dekorativní i přímé osvětlování 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(v bazénech, sprchových koutech, saunách nebo v prostředích s nebezpečím výbuchu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optovláknové snímače teploty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16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e6e6e6"/>
                </a:solidFill>
                <a:latin typeface="Times New Roman"/>
              </a:rPr>
              <a:t>- medicínské využití (odstraňování usazenin v cévách atd.)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ických kabelů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konkrétně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771040" cy="677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600" spc="-1" strike="noStrike">
                <a:solidFill>
                  <a:srgbClr val="e6e6e6"/>
                </a:solidFill>
                <a:latin typeface="Times New Roman"/>
              </a:rPr>
              <a:t>                              </a:t>
            </a:r>
            <a:endParaRPr b="0" lang="en-US" sz="6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 algn="ctr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e6e6e6"/>
                </a:solidFill>
                <a:latin typeface="Times New Roman"/>
              </a:rPr>
              <a:t>Využití pro přenos dat: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GÉAN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celoevropská akademická 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očítačová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sít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10 Gbps (CESNET připojen rychlostí 2,5 Gbps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- propojuje více než 3 tisíce evropských institucí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CESNET2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 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akademická počítačová síť ČR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rychlost 10 Gbp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- technologie DWDM, ostatní okruhy  technologie POS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páteřní linka propojuje Prahu, Brno, Olomouc a Hradec Králové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200" spc="-1" strike="noStrike">
                <a:solidFill>
                  <a:srgbClr val="e6e6e6"/>
                </a:solidFill>
                <a:latin typeface="Times New Roman"/>
              </a:rPr>
              <a:t>PASNET </a:t>
            </a: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(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Pražská akademická počítačová síť)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 Gbps páteřní síť napojena na CESNE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e6e6e6"/>
                </a:solidFill>
                <a:latin typeface="Times New Roman"/>
              </a:rPr>
              <a:t>- 100 km optických cest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e6e6e6"/>
                </a:solidFill>
                <a:latin typeface="Times New Roman"/>
              </a:rPr>
              <a:t>                     </a:t>
            </a:r>
            <a:endParaRPr b="0" lang="en-US" sz="8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428760" indent="0">
              <a:lnSpc>
                <a:spcPct val="134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41240" y="445680"/>
            <a:ext cx="8607600" cy="9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4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9966"/>
                </a:solidFill>
                <a:latin typeface="Arial"/>
              </a:rPr>
              <a:t>Použití opt. vláken </a:t>
            </a:r>
            <a:r>
              <a:rPr b="1" i="1" lang="en-GB" sz="3200" spc="-1" strike="noStrike">
                <a:solidFill>
                  <a:srgbClr val="ff9966"/>
                </a:solidFill>
                <a:latin typeface="Arial"/>
              </a:rPr>
              <a:t>(pokračování)</a:t>
            </a:r>
            <a:endParaRPr b="1" i="1" lang="en-US" sz="32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935520" cy="536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4267080" cy="2863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4876920" y="1523880"/>
            <a:ext cx="4267080" cy="2367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6996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9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5238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GÉ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77280" y="1523880"/>
            <a:ext cx="110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CE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77280" y="4038480"/>
            <a:ext cx="110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PAS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pog</cp:lastModifiedBy>
  <cp:revision>0</cp:revision>
  <dc:subject/>
  <dc:title>Optická vlákna</dc:title>
</cp:coreProperties>
</file>